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496-5D7C-4035-B441-D452606F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C88-097A-46C0-92BE-E52A804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D8B-E3A9-4671-9C3E-9F15426A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06D-0F7F-4F73-8FBA-2A26C686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51F-FE79-4B2E-BE5A-98278BF7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77A-BCC9-4E89-959F-09DBE4C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E59-EBE5-42ED-A10F-FF436771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1CA-6FFA-4FBF-B992-A410989C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4A8-9C31-40CA-A0BF-D2DA6D6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388-7559-400C-85B7-C293D67E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328-7D3A-47BC-A10E-8DBD16D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6FF-E612-4571-95EF-7A94E34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688F-AD81-49E4-BCEF-88BB7AA3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e differ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1-01-26T15:57:22Z</dcterms:modified>
  <cp:revision>10</cp:revision>
  <dc:subject/>
  <dc:title>Blow a Bigger Bubble</dc:title>
</cp:coreProperties>
</file>